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9.jpeg" ContentType="image/jpeg"/>
  <Override PartName="/ppt/media/image6.jpeg" ContentType="image/jpeg"/>
  <Override PartName="/ppt/media/image63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2.png" ContentType="image/pn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6.jpeg" ContentType="image/jpeg"/>
  <Override PartName="/ppt/media/image23.jpeg" ContentType="image/jpeg"/>
  <Override PartName="/ppt/media/image18.jpeg" ContentType="image/jpeg"/>
  <Override PartName="/ppt/media/image19.jpeg" ContentType="image/jpeg"/>
  <Override PartName="/ppt/media/image61.jpeg" ContentType="image/jpeg"/>
  <Override PartName="/ppt/media/image17.jpeg" ContentType="image/jpeg"/>
  <Override PartName="/ppt/media/image11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57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4.jpeg" ContentType="image/jpeg"/>
  <Override PartName="/ppt/media/image51.png" ContentType="image/png"/>
  <Override PartName="/ppt/media/image5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FC506-A5D7-44CE-A9E1-A9E3911BD0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E905C-30A0-4ADB-8CF3-90959A11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39DB1-F0F4-4DF3-82FD-440F0252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64BDF-DF2B-41F6-9040-D7ECB8332B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96FBD-F41C-44F9-8D4E-9869A8FD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FF18A-6FED-43FE-BFE1-AF622CF8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5F6EB-F977-459C-A6F3-D90AD886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40F7F-0254-40AA-AF66-1834923BC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EDB34-2015-4BF2-95D5-15005F4F0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0AF26-A426-4B71-9B1A-E67DDD32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FCED6-97CF-41B2-89FD-0D22BF5D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ACE8A-91F4-4853-96DD-8D676578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2577600" y="6528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5851-0592-4A11-9051-BFA8350AF9F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Istanbu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6. Oktober – 2. November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579680" cy="1728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156360" y="476280"/>
            <a:ext cx="2305080" cy="157968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FFA5A-0A92-42BD-9322-BBD38DE79BE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Development Planning M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71640" y="4005360"/>
            <a:ext cx="2916000" cy="2187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859280" y="1557360"/>
            <a:ext cx="2916360" cy="2187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971640" y="1628640"/>
            <a:ext cx="2914560" cy="21862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859280" y="3933720"/>
            <a:ext cx="2914560" cy="21859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38EDC-B2D0-4523-B1F4-96C8DC3E0E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4032360" cy="3024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356000" y="2852640"/>
            <a:ext cx="4140360" cy="3105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26D2E-34F7-4C3F-9998-01CF8EC447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az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003640" y="2924280"/>
            <a:ext cx="2914920" cy="21859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D00C6-B7C7-458A-9232-D57857B9EF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26960" y="679320"/>
            <a:ext cx="3886200" cy="21862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06520" y="3944880"/>
            <a:ext cx="3889440" cy="2187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219640" y="620640"/>
            <a:ext cx="3202200" cy="5688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B01B3-FE7E-4F51-8972-18881D69CB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Boat Trip</a:t>
            </a:r>
            <a:br>
              <a:rPr sz="4000"/>
            </a:b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Bosphor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435640" y="1557360"/>
            <a:ext cx="2914560" cy="21859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2914560" cy="21862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55640" y="3933720"/>
            <a:ext cx="2916360" cy="2187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5472000" y="3933720"/>
            <a:ext cx="2916360" cy="2187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DD01D-AB77-476A-BA5C-03E5B9CF38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8040" y="546120"/>
            <a:ext cx="3552840" cy="26654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253120" y="579600"/>
            <a:ext cx="3552840" cy="2665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49440" y="3625920"/>
            <a:ext cx="3552840" cy="26654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5330880" y="3621240"/>
            <a:ext cx="3552840" cy="26654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D8D63-FD3C-4B20-9251-F34F65098C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Topkapi Cultural District </a:t>
            </a:r>
            <a:br>
              <a:rPr sz="4000"/>
            </a:b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of Turkish Wor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2914560" cy="21859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153040" y="1843200"/>
            <a:ext cx="3029040" cy="40384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A6ED6-94AD-455B-A3D7-E0C60E710F0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Lunch with the representative of the Mayor,</a:t>
            </a:r>
            <a:br>
              <a:rPr sz="2400"/>
            </a:b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the Director of Education and </a:t>
            </a:r>
            <a:br>
              <a:rPr sz="2400"/>
            </a:b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the County Govern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219640" y="4005360"/>
            <a:ext cx="2914560" cy="21859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042920" y="3933720"/>
            <a:ext cx="2916360" cy="2187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1042920" y="1484280"/>
            <a:ext cx="2916360" cy="2187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E2429-14C6-446B-B706-99BD9EE265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30160" y="476280"/>
            <a:ext cx="7632720" cy="5724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26F87-273B-4A6F-A60A-47DAB22037B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Closure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24658" t="0" r="21015" b="5557"/>
          <a:stretch/>
        </p:blipFill>
        <p:spPr>
          <a:xfrm>
            <a:off x="684360" y="1628640"/>
            <a:ext cx="1584000" cy="3672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916360" y="1557360"/>
            <a:ext cx="4967280" cy="3726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0C5B5-267A-4712-86AD-AA7043BFD1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9528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pening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70040" y="3862440"/>
            <a:ext cx="3240000" cy="2268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2"/>
          <a:srcRect l="20509" t="44866" r="17943" b="0"/>
          <a:stretch/>
        </p:blipFill>
        <p:spPr>
          <a:xfrm>
            <a:off x="6551640" y="3978360"/>
            <a:ext cx="1809720" cy="2160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3"/>
          <a:srcRect l="14868" t="28460" r="24311" b="39022"/>
          <a:stretch/>
        </p:blipFill>
        <p:spPr>
          <a:xfrm>
            <a:off x="755640" y="1268280"/>
            <a:ext cx="3311640" cy="12988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4"/>
          <a:srcRect l="15949" t="18554" r="0" b="0"/>
          <a:stretch/>
        </p:blipFill>
        <p:spPr>
          <a:xfrm>
            <a:off x="5219640" y="1268280"/>
            <a:ext cx="3168720" cy="23018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BE7CC-2359-4478-9CEF-1762AF2C85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870440" y="836640"/>
            <a:ext cx="3548160" cy="26607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55640" y="3789360"/>
            <a:ext cx="3552840" cy="26654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863960" y="3776760"/>
            <a:ext cx="3552840" cy="26654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684360" y="836640"/>
            <a:ext cx="3552840" cy="26654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8A193-FDEE-4D66-9252-AD023350C4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00000" y="2060640"/>
            <a:ext cx="4248360" cy="31878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867280" y="1700280"/>
            <a:ext cx="2452680" cy="32684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12495-12B4-4EB4-8117-DE414B1549E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26920" y="466560"/>
            <a:ext cx="7345440" cy="5508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93225-8A34-4222-8F34-C7CBFBABFF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ff"/>
                </a:solidFill>
                <a:latin typeface="Arial"/>
              </a:rPr>
              <a:t>Visiting Miniatu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2914560" cy="21862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219640" y="4005360"/>
            <a:ext cx="2916360" cy="2187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042920" y="4005360"/>
            <a:ext cx="2916360" cy="2187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219640" y="1628640"/>
            <a:ext cx="2914560" cy="21862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91F7C-D8E8-45A9-A4FF-2E12DB7FAD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ff"/>
                </a:solidFill>
                <a:latin typeface="Arial"/>
              </a:rPr>
              <a:t>Blue Mos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2914560" cy="21862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2914560" cy="21859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859280" y="4076640"/>
            <a:ext cx="2916360" cy="2187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4859280" y="1557360"/>
            <a:ext cx="2916360" cy="2187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6F113-F6CB-4649-93A2-5660627B73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Tea break at Cafer Aga Medresesi </a:t>
            </a:r>
            <a:br>
              <a:rPr sz="2800"/>
            </a:b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(an old Ottoman scho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59280" y="1557360"/>
            <a:ext cx="2914560" cy="21859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148360" y="4005360"/>
            <a:ext cx="2914560" cy="21859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028880" y="3933720"/>
            <a:ext cx="2916000" cy="2187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1D627-8C6A-4C06-BE2A-7EE80EA0F1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agia Irene Chu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4321440" cy="32414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364000" y="1700280"/>
            <a:ext cx="3260880" cy="43466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61C37-2B7D-437A-95ED-990F2B420A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4174920" cy="3132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997440" y="3027240"/>
            <a:ext cx="4464000" cy="3348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5219640" y="90792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Street-vend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CB464-C2C5-4E3F-8C64-5941155731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pecial breakfast by Istanbul Chamber of Commerce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(at Cemile Sultan Seaside Reso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14440" t="0" r="35574" b="0"/>
          <a:stretch/>
        </p:blipFill>
        <p:spPr>
          <a:xfrm>
            <a:off x="468360" y="2421000"/>
            <a:ext cx="2495520" cy="3744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580000" y="1700280"/>
            <a:ext cx="2914560" cy="21859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618000" y="4149720"/>
            <a:ext cx="3889440" cy="2187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3F4DE-9B22-4E26-93C2-EE1BFCE43C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ff"/>
                </a:solidFill>
                <a:latin typeface="Arial"/>
              </a:rPr>
              <a:t>Visiting the Beylerbeyi Pal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2914560" cy="21859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042920" y="4005360"/>
            <a:ext cx="2914560" cy="21859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3"/>
          <a:srcRect l="0" t="25561" r="0" b="18694"/>
          <a:stretch/>
        </p:blipFill>
        <p:spPr>
          <a:xfrm>
            <a:off x="5219640" y="4076640"/>
            <a:ext cx="2879640" cy="21398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5148360" y="1557360"/>
            <a:ext cx="2916000" cy="2187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C49BC-7E08-4337-84FE-4DE0F31858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10:45:51Z</dcterms:created>
  <dc:creator>Angelika Home</dc:creator>
  <dc:description/>
  <dc:language>en-US</dc:language>
  <cp:lastModifiedBy>Stolz-Hasslacher.Mar</cp:lastModifiedBy>
  <dcterms:modified xsi:type="dcterms:W3CDTF">2010-11-17T11:45:35Z</dcterms:modified>
  <cp:revision>14</cp:revision>
  <dc:subject/>
  <dc:title>Istanbul</dc:title>
</cp:coreProperties>
</file>